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  <p:custShowLst>
    <p:custShow name="Winds" id="0">
      <p:sldLst>
        <p:sld r:id="rId5"/>
        <p:sld r:id="rId6"/>
        <p:sld r:id="rId7"/>
        <p:sld r:id="rId8"/>
        <p:sld r:id="rId9"/>
        <p:sld r:id="rId10"/>
      </p:sldLst>
    </p:custShow>
    <p:custShow name="Winds-ActiveArt" id="1">
      <p:sldLst>
        <p:sld r:id="rId8"/>
      </p:sldLst>
    </p:custShow>
    <p:custShow name="Winds-Video" id="2">
      <p:sldLst>
        <p:sld r:id="rId1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0013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5a0013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61C6-6EA6-4CBF-9ADB-A137CB005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3515-8711-4E19-93EE-F163854AC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D067-FDD9-4DCB-91DD-9FEB6FBFC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6B12-C2FA-47E4-9005-D16E85030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0AB6-A16A-4F24-BEA5-E40C22DB7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E447-5302-442F-B360-3CFB2473F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C1EC-D635-408F-AC15-A8952D79B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2D69-901D-4C77-95A8-88822BF4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a001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7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2247120"/>
            <a:ext cx="7772400" cy="7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DC83-0CD7-438B-91E6-A7B12BC8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a001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224712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224712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865-065E-4557-B853-A4211C41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a001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7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7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7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2247120"/>
            <a:ext cx="2502360" cy="7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2247120"/>
            <a:ext cx="2502360" cy="7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2247120"/>
            <a:ext cx="2502360" cy="7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8634-A075-44BA-82B6-896D209B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a001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5515-EB04-470E-9B37-EFFB38C2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a001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9F12-6D6D-4AE3-9E22-6CF68835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a001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C8E1-D273-4D31-82B1-52D6CBEF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a00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56BF-6679-437E-83AA-9CCC85C6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34BE-24A0-4855-9B46-21BB6D61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a001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224712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DA4-67C7-4A09-B159-76AC2F9E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a001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224712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0BE4-CC44-439D-A128-F9F06C23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a001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7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2247120"/>
            <a:ext cx="7772400" cy="7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3EA6-10F8-4E98-8049-E236046B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hyperlink" Target="file:///video/video_sx05_icv023.mov" TargetMode="External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1" descr="Earth-masterflip3-b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0013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a001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95480" indent="-1954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95480" indent="-195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95480" indent="-1954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95480" indent="-1954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95480" indent="-1954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95480" indent="-1954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F0B8-8452-4C00-87F8-A26E1356E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7" descr="menu-arrow-L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472520" y="6497640"/>
            <a:ext cx="612720" cy="3459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menu-arrow-R"/>
          <p:cNvPicPr/>
          <p:nvPr/>
        </p:nvPicPr>
        <p:blipFill>
          <a:blip r:embed="rId4"/>
          <a:stretch/>
        </p:blipFill>
        <p:spPr>
          <a:xfrm>
            <a:off x="8263080" y="6497640"/>
            <a:ext cx="612720" cy="3459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9" descr="menu-exit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1058760" y="6494400"/>
            <a:ext cx="617760" cy="3492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1" descr="menu-menu"/>
          <p:cNvPicPr/>
          <p:nvPr/>
        </p:nvPicPr>
        <p:blipFill>
          <a:blip r:embed="rId6"/>
          <a:stretch/>
        </p:blipFill>
        <p:spPr>
          <a:xfrm>
            <a:off x="6553080" y="6494400"/>
            <a:ext cx="617760" cy="3492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30" descr="menu-help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016000" y="6494400"/>
            <a:ext cx="617760" cy="349200"/>
          </a:xfrm>
          <a:prstGeom prst="rect">
            <a:avLst/>
          </a:prstGeom>
          <a:ln w="0">
            <a:noFill/>
          </a:ln>
        </p:spPr>
      </p:pic>
      <p:sp>
        <p:nvSpPr>
          <p:cNvPr id="11" name="Rectangle 32"/>
          <p:cNvSpPr/>
          <p:nvPr/>
        </p:nvSpPr>
        <p:spPr>
          <a:xfrm>
            <a:off x="109440" y="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ther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34" descr="Earth-thinline"/>
          <p:cNvPicPr/>
          <p:nvPr/>
        </p:nvPicPr>
        <p:blipFill>
          <a:blip r:embed="rId9"/>
          <a:stretch/>
        </p:blipFill>
        <p:spPr>
          <a:xfrm>
            <a:off x="130320" y="444600"/>
            <a:ext cx="8885160" cy="2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0013"/>
                </a:solidFill>
                <a:latin typeface="Arial"/>
              </a:rPr>
              <a:t>Chapter 16 Section 3</a:t>
            </a:r>
            <a:br>
              <a:rPr sz="3600"/>
            </a:br>
            <a:r>
              <a:rPr b="1" lang="en-US" sz="3600" spc="-1" strike="noStrike">
                <a:solidFill>
                  <a:srgbClr val="5a0013"/>
                </a:solidFill>
                <a:latin typeface="Arial"/>
              </a:rPr>
              <a:t>Winds</a:t>
            </a:r>
            <a:endParaRPr b="1" lang="en-US" sz="3600" spc="-1" strike="noStrike">
              <a:solidFill>
                <a:srgbClr val="5a001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578680" y="23760"/>
            <a:ext cx="1128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Wi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0013"/>
                </a:solidFill>
                <a:latin typeface="Arial"/>
              </a:rPr>
              <a:t>Angle of the Sun’s Rays</a:t>
            </a:r>
            <a:endParaRPr b="1" lang="en-US" sz="2800" spc="-1" strike="noStrike">
              <a:solidFill>
                <a:srgbClr val="5a001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ergy from the sun strikes Earth most directly near the equator. Near the poles, the same amount of energy is spread out over a larger ar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WeatherF_AngleSun_sx5834b3"/>
          <p:cNvPicPr/>
          <p:nvPr/>
        </p:nvPicPr>
        <p:blipFill>
          <a:blip r:embed="rId1"/>
          <a:stretch/>
        </p:blipFill>
        <p:spPr>
          <a:xfrm>
            <a:off x="1822320" y="2495520"/>
            <a:ext cx="550080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WeatherF_Coriolis_sx5835a3"/>
          <p:cNvPicPr/>
          <p:nvPr/>
        </p:nvPicPr>
        <p:blipFill>
          <a:blip r:embed="rId1"/>
          <a:stretch/>
        </p:blipFill>
        <p:spPr>
          <a:xfrm>
            <a:off x="3733920" y="1523880"/>
            <a:ext cx="5195880" cy="4638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2578680" y="23760"/>
            <a:ext cx="1128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Wi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0013"/>
                </a:solidFill>
                <a:latin typeface="Arial"/>
              </a:rPr>
              <a:t>Coriolis Effect</a:t>
            </a:r>
            <a:endParaRPr b="1" lang="en-US" sz="2800" spc="-1" strike="noStrike">
              <a:solidFill>
                <a:srgbClr val="5a001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3429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Earth rotates, the Coriolis effect turns winds in the Northern Hemisphere toward the righ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WeatherF_Globalwinds_sx5844a3"/>
          <p:cNvPicPr/>
          <p:nvPr/>
        </p:nvPicPr>
        <p:blipFill>
          <a:blip r:embed="rId1"/>
          <a:stretch/>
        </p:blipFill>
        <p:spPr>
          <a:xfrm>
            <a:off x="76320" y="1292400"/>
            <a:ext cx="5257800" cy="47527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2578680" y="23760"/>
            <a:ext cx="1128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Wi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0013"/>
                </a:solidFill>
                <a:latin typeface="Arial"/>
              </a:rPr>
              <a:t>Global Wind Belts</a:t>
            </a:r>
            <a:endParaRPr b="1" lang="en-US" sz="2800" spc="-1" strike="noStrike">
              <a:solidFill>
                <a:srgbClr val="5a001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4120" y="1371600"/>
            <a:ext cx="3200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eries of wind belts circles Earth. Between the wind belts are calm areas where air is rising or fall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0013"/>
                </a:solidFill>
                <a:latin typeface="Arial"/>
              </a:rPr>
              <a:t>Global Winds Activity</a:t>
            </a:r>
            <a:endParaRPr b="1" lang="en-US" sz="2800" spc="-1" strike="noStrike">
              <a:solidFill>
                <a:srgbClr val="5a001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4419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he Active Art button to open a browser window and access Active Art about global wi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ActiveArt-bttn-c"/>
          <p:cNvPicPr/>
          <p:nvPr/>
        </p:nvPicPr>
        <p:blipFill>
          <a:blip r:embed="rId1"/>
          <a:stretch/>
        </p:blipFill>
        <p:spPr>
          <a:xfrm>
            <a:off x="3454560" y="2514600"/>
            <a:ext cx="2234880" cy="704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1"/>
          <p:cNvSpPr/>
          <p:nvPr/>
        </p:nvSpPr>
        <p:spPr>
          <a:xfrm>
            <a:off x="2578680" y="23760"/>
            <a:ext cx="1128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Wi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WeatherF_JetStream_sx5845a3"/>
          <p:cNvPicPr/>
          <p:nvPr/>
        </p:nvPicPr>
        <p:blipFill>
          <a:blip r:embed="rId1"/>
          <a:stretch/>
        </p:blipFill>
        <p:spPr>
          <a:xfrm>
            <a:off x="1471680" y="2411280"/>
            <a:ext cx="6200640" cy="3976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2578680" y="23760"/>
            <a:ext cx="1128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Wi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0013"/>
                </a:solidFill>
                <a:latin typeface="Arial"/>
              </a:rPr>
              <a:t>Jet Streams</a:t>
            </a:r>
            <a:endParaRPr b="1" lang="en-US" sz="2800" spc="-1" strike="noStrike">
              <a:solidFill>
                <a:srgbClr val="5a001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jet streams are high-speed bands of winds occurring at the top of the troposph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0013"/>
                </a:solidFill>
                <a:latin typeface="Arial"/>
              </a:rPr>
              <a:t>Convection Currents</a:t>
            </a:r>
            <a:endParaRPr b="1" lang="en-US" sz="2800" spc="-1" strike="noStrike">
              <a:solidFill>
                <a:srgbClr val="5a001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4419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he Video button to watch a movie abou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ction curr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video-bttn-c"/>
          <p:cNvPicPr/>
          <p:nvPr/>
        </p:nvPicPr>
        <p:blipFill>
          <a:blip r:embed="rId1"/>
          <a:stretch/>
        </p:blipFill>
        <p:spPr>
          <a:xfrm>
            <a:off x="3454560" y="2495520"/>
            <a:ext cx="2234880" cy="704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2578680" y="23760"/>
            <a:ext cx="1128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Wi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20:41:12Z</dcterms:created>
  <dc:creator>John Perry</dc:creator>
  <dc:description/>
  <cp:keywords/>
  <dc:language>en-US</dc:language>
  <cp:lastModifiedBy>Falcon School District 49</cp:lastModifiedBy>
  <dcterms:modified xsi:type="dcterms:W3CDTF">2009-11-17T02:25:49Z</dcterms:modified>
  <cp:revision>557</cp:revision>
  <dc:subject/>
  <dc:title>Living Things</dc:title>
</cp:coreProperties>
</file>